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B80-69B8-419C-ADC0-DCD6CBCC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B51-B6D4-4337-9082-7C6C75F7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AB1-9928-4285-88F0-73C00767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B52-0375-439B-8289-8B761355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E92-EE91-4605-AF27-B51B2A5F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BE7-DA21-4F42-81B3-B62FDBC5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076-1BE4-4593-8C3E-B50AE65B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5A7-F3C6-4FD6-9498-A21B032D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537-6084-4270-8989-B910B5A3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B2C-0EE4-4760-84CA-D1DEFEA4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221-6513-4787-8BDD-AE45718C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986-AB87-4BE1-B8EE-A3686876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4A3E-00F3-4BF1-817D-1E9B371F0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778824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Renewable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generates itself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 animals, trees, plants, water,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onrenewable resou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nnot regenerate itself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- minerals, oil, gas, c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4193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80640" y="146160"/>
            <a:ext cx="6976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ternative Energy Sour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k 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Hydroelec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Geotherm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io-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78152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57400" y="472428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038480" y="4724280"/>
            <a:ext cx="1602000" cy="18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315200" y="4495680"/>
            <a:ext cx="1660680" cy="2009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715000" y="5029200"/>
            <a:ext cx="1523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228600"/>
            <a:ext cx="411480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ssive Solar He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’s energy is collected, stored, and distributed natur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Walk through a green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4588" r="0" b="0"/>
          <a:stretch/>
        </p:blipFill>
        <p:spPr>
          <a:xfrm>
            <a:off x="380880" y="3276720"/>
            <a:ext cx="3353040" cy="30844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952880" y="228600"/>
            <a:ext cx="3810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e Solar 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are used to collect, store, and circulate heat produced from solar energ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4276800" cy="26924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41280"/>
            <a:ext cx="84582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voltaic Cells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light striking the cells cause electrons to move from one slice to the next causing electric cur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5763" t="13715" r="3629" b="19723"/>
          <a:stretch/>
        </p:blipFill>
        <p:spPr>
          <a:xfrm>
            <a:off x="996840" y="2441520"/>
            <a:ext cx="6704280" cy="36752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82160" y="298440"/>
            <a:ext cx="32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d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3120" y="1066680"/>
            <a:ext cx="64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nd turbine generators- windmills generate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2743200" cy="4114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4572000" cy="34434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4114800" cy="27338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041560" y="110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62080" y="407880"/>
            <a:ext cx="52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ydroelectric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6405" t="35419" r="35158" b="20835"/>
          <a:stretch/>
        </p:blipFill>
        <p:spPr>
          <a:xfrm>
            <a:off x="380880" y="1981080"/>
            <a:ext cx="4953240" cy="33559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818720" y="121932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ergy produced from the energy of moving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760" y="53352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thermal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2362320" cy="1575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86600" y="1066680"/>
            <a:ext cx="1598760" cy="26863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17800" y="1371600"/>
            <a:ext cx="65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ergy that is produced within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enerated by decay of radioactive elements in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2743200" cy="2413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75840" y="5410080"/>
            <a:ext cx="386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Hot Springs, Gey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m 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3925800"/>
            <a:ext cx="3657600" cy="27799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1905120" cy="28576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46240" y="304920"/>
            <a:ext cx="23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o-fu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141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rganic matter used as fuel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05520" y="228600"/>
            <a:ext cx="3736800" cy="61484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41360" y="1752480"/>
            <a:ext cx="222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biomass is b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eat is used to boil water in the bo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nergy in the steam is used to turn turbines and gen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22:12:02Z</dcterms:created>
  <dc:creator>bmcardle</dc:creator>
  <dc:description/>
  <dc:language>en-US</dc:language>
  <cp:lastModifiedBy>bmcardle</cp:lastModifiedBy>
  <dcterms:modified xsi:type="dcterms:W3CDTF">2009-01-10T20:20:58Z</dcterms:modified>
  <cp:revision>4</cp:revision>
  <dc:subject/>
  <dc:title>Slide 1</dc:title>
</cp:coreProperties>
</file>